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MS Mincho"/>
              </a:rPr>
              <a:t>Click to move the slide</a:t>
            </a: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1471-3861-4F3B-8238-BD0BA7761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668F-CF1B-4F9D-BFB9-F9568E9B5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E4C7-79EC-4CFB-BC6E-3F15FFC20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C1F6-DA3E-4F84-B837-CB325DD23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9316-67F8-47C0-969A-A234A733C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F588-96F9-4FBF-BA34-18A687D60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20C7-9DB1-4B53-9633-250C216B3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D67E-EAC7-4256-B697-9A9F78087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360" y="38880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535C-DC5F-47E3-AB25-CDD5F96E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1680" y="152388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360" y="38880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1680" y="38880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12A0-2357-44FC-914C-84C31B985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86520" y="152388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82680" y="152388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360" y="38880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86520" y="38880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82680" y="38880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29EA-1ACB-48D9-90D7-7DBC5E2F4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F0CE-1328-4F2E-A7CB-76A46DCCB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15238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D6E1-05C3-4FA1-A5D2-82BCA3CC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A1FE-4468-45C0-8ACB-C106E84D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1680" y="152388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188B-B793-4A96-9805-225C5A24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12A0-1455-4D0E-9DBC-8BD8C63F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720" y="2743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724D-FFAC-4C38-920C-82D88132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1680" y="152388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360" y="38880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F3E3-ADD5-430D-B9B9-C0EBB7A3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360" y="15238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AEA8-B853-41A3-B895-C447C26A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1680" y="152388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1680" y="38880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0C03-CEEE-49F5-BE21-FCB03EEF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1680" y="152388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90360" y="38880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9A4E-558E-4131-8348-2232DF18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90360" y="38880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5FD3-1FE1-4A1F-8AFF-AAFF75A7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1680" y="152388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360" y="38880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1680" y="38880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781D-2A1A-4E94-91A6-D98DD9026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86520" y="152388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782680" y="152388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90360" y="38880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86520" y="38880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782680" y="38880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1957-6E15-41C5-8FC5-301820AB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E99B-6B82-4AB2-894E-DA5D5A7E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1680" y="152388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6CBC-3618-4E54-8BED-0805071F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0F9F-DE1E-47F6-826C-C76637FD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2743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ACF8-1C7D-458C-B5CB-EE312888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1680" y="152388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360" y="38880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F4BF-FA1C-49EC-97E3-F86B17BC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1680" y="152388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1680" y="38880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F91B-E7A9-478A-996B-5F995E1D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1680" y="152388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360" y="38880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D29A-0862-4AE1-B10E-3D9CEDF8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MS Mincho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360" y="15238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6600"/>
              </a:buClr>
              <a:buFont typeface="MS Minch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  <a:p>
            <a:pPr lvl="1" marL="705600" indent="-271440">
              <a:spcBef>
                <a:spcPts val="799"/>
              </a:spcBef>
              <a:buClr>
                <a:srgbClr val="cc6600"/>
              </a:buClr>
              <a:buFont typeface="MS Minch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  <a:p>
            <a:pPr lvl="2" marL="1085760" indent="-217080">
              <a:spcBef>
                <a:spcPts val="799"/>
              </a:spcBef>
              <a:buClr>
                <a:srgbClr val="cc6600"/>
              </a:buClr>
              <a:buFont typeface="MS Minch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  <a:p>
            <a:pPr lvl="3" marL="1519920" indent="-217080">
              <a:spcBef>
                <a:spcPts val="799"/>
              </a:spcBef>
              <a:buClr>
                <a:srgbClr val="cc6600"/>
              </a:buClr>
              <a:buFont typeface="MS Minch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  <a:p>
            <a:pPr lvl="4" marL="1954440" indent="-217080">
              <a:spcBef>
                <a:spcPts val="799"/>
              </a:spcBef>
              <a:buClr>
                <a:srgbClr val="cc6600"/>
              </a:buClr>
              <a:buFont typeface="MS Minch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MS Minch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MS Minch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MS Minch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181E-85C6-4B17-868D-F73827DDAA1A}" type="slidenum">
              <a:rPr b="0" lang="en-US" sz="1400" spc="-1" strike="noStrike">
                <a:solidFill>
                  <a:srgbClr val="ffffff"/>
                </a:solidFill>
                <a:latin typeface="MS Minch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MS Mincho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90360" y="15238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6600"/>
              </a:buClr>
              <a:buFont typeface="MS Minch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  <a:p>
            <a:pPr lvl="1" marL="705600" indent="-271440">
              <a:spcBef>
                <a:spcPts val="799"/>
              </a:spcBef>
              <a:buClr>
                <a:srgbClr val="cc6600"/>
              </a:buClr>
              <a:buFont typeface="MS Minch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  <a:p>
            <a:pPr lvl="2" marL="1085760" indent="-217080">
              <a:spcBef>
                <a:spcPts val="799"/>
              </a:spcBef>
              <a:buClr>
                <a:srgbClr val="cc6600"/>
              </a:buClr>
              <a:buFont typeface="MS Minch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  <a:p>
            <a:pPr lvl="3" marL="1519920" indent="-217080">
              <a:spcBef>
                <a:spcPts val="799"/>
              </a:spcBef>
              <a:buClr>
                <a:srgbClr val="cc6600"/>
              </a:buClr>
              <a:buFont typeface="MS Minch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  <a:p>
            <a:pPr lvl="4" marL="1954440" indent="-217080">
              <a:spcBef>
                <a:spcPts val="799"/>
              </a:spcBef>
              <a:buClr>
                <a:srgbClr val="cc6600"/>
              </a:buClr>
              <a:buFont typeface="MS Minch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MS Minch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MS Minch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S Mincho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D20E-271E-4262-ACFF-6A8D396E5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MS Mincho"/>
              </a:rPr>
              <a:t>Solving Addition and Subtraction Equations</a:t>
            </a:r>
            <a:endParaRPr b="1" lang="en-US" sz="5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S Mincho"/>
              </a:rPr>
              <a:t>Solving for a variable!</a:t>
            </a:r>
            <a:endParaRPr b="0" lang="en-US" sz="2800" spc="-1" strike="noStrike">
              <a:solidFill>
                <a:srgbClr val="000000"/>
              </a:solidFill>
              <a:latin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MS Mincho"/>
              </a:rPr>
              <a:t>Procedure</a:t>
            </a: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MS Minch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 Mincho"/>
              </a:rPr>
              <a:t>Isolate the variable by performing the </a:t>
            </a:r>
            <a:r>
              <a:rPr b="1" lang="en-US" sz="2800" spc="-1" strike="noStrike">
                <a:solidFill>
                  <a:srgbClr val="000000"/>
                </a:solidFill>
                <a:latin typeface="MS Mincho"/>
              </a:rPr>
              <a:t>inverse operation</a:t>
            </a:r>
            <a:r>
              <a:rPr b="0" lang="en-US" sz="2800" spc="-1" strike="noStrike">
                <a:solidFill>
                  <a:srgbClr val="000000"/>
                </a:solidFill>
                <a:latin typeface="MS Mincho"/>
              </a:rPr>
              <a:t> on that variable.</a:t>
            </a:r>
            <a:endParaRPr b="0" lang="en-US" sz="2800" spc="-1" strike="noStrike">
              <a:solidFill>
                <a:srgbClr val="000000"/>
              </a:solidFill>
              <a:latin typeface="MS Mincho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MS Minch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 Mincho"/>
              </a:rPr>
              <a:t>The inverse of subtraction is adding.  The inverse of adding is subtracting.</a:t>
            </a:r>
            <a:endParaRPr b="0" lang="en-US" sz="2800" spc="-1" strike="noStrike">
              <a:solidFill>
                <a:srgbClr val="000000"/>
              </a:solidFill>
              <a:latin typeface="MS Mincho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MS Minch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 Mincho"/>
              </a:rPr>
              <a:t>Perform the same operation on the side of the equal sign that does not have a variable.</a:t>
            </a:r>
            <a:endParaRPr b="0" lang="en-US" sz="2800" spc="-1" strike="noStrike">
              <a:solidFill>
                <a:srgbClr val="000000"/>
              </a:solidFill>
              <a:latin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44956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MS Mincho"/>
              </a:rPr>
              <a:t>Example</a:t>
            </a: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219320" y="1219320"/>
            <a:ext cx="4495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 + 13 =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334120" y="152280"/>
            <a:ext cx="35812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ant to get the y by itself.  Perform the inverse operation.  The inverse of adding is subtrac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2514600" y="167652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-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5334120" y="1905120"/>
            <a:ext cx="3581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the same operation on the other side of the equal 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3657600" y="167652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-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>
            <a:off x="1143000" y="24382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1371600" y="2514600"/>
            <a:ext cx="3962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          =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MS Mincho"/>
              </a:rPr>
              <a:t>Check the answer in the original equation.</a:t>
            </a: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1523880" y="2286000"/>
            <a:ext cx="4496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 + 13 =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1447920" y="3048120"/>
            <a:ext cx="4495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 + 13 =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981080" y="3886200"/>
            <a:ext cx="4496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5 =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MS Mincho"/>
              </a:rPr>
              <a:t>Example 2</a:t>
            </a: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752480" y="1295280"/>
            <a:ext cx="3429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 – 12   =  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638680" y="1219320"/>
            <a:ext cx="281952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get k by itself, we perform the inverse operation.  The opposite of “minus 12” is “plus 12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2286000" y="20574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+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4038480" y="1981080"/>
            <a:ext cx="1219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+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2133720" y="28954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2438280" y="289548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 = 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MS Mincho"/>
              </a:rPr>
              <a:t>Check</a:t>
            </a:r>
            <a:endParaRPr b="1" lang="en-US" sz="4400" spc="-1" strike="noStrike">
              <a:solidFill>
                <a:srgbClr val="cc6600"/>
              </a:solidFill>
              <a:latin typeface="MS Mincho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438280" y="1676520"/>
            <a:ext cx="3429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 – 12   =  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2362320" y="2743200"/>
            <a:ext cx="3429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6 – 12   =  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3124080" y="3886200"/>
            <a:ext cx="3429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  =  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2:40:20Z</dcterms:created>
  <dc:creator>Josh Hammond</dc:creator>
  <dc:description/>
  <dc:language>en-US</dc:language>
  <cp:lastModifiedBy>Home</cp:lastModifiedBy>
  <dcterms:modified xsi:type="dcterms:W3CDTF">2010-11-14T16:57:34Z</dcterms:modified>
  <cp:revision>12</cp:revision>
  <dc:subject/>
  <dc:title>Solving Addition and Subtraction Equationgs</dc:title>
</cp:coreProperties>
</file>